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3E436-04CA-40F3-B6B8-AB816790A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67170-56A3-4038-9AC8-4FB5572E4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6ED2D-FFA3-4C14-A240-99A18CDBC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C655A-03D0-4AC0-AB50-6959F99CA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DBDDD-6662-481F-BE56-6A85F9CBE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09CA6-811B-4C61-8131-C5E20CFAB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C0EE0-E666-4E23-993E-7667AB407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6634A-4D04-4F03-9FCB-76CB37550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7F402-FFC5-477E-9B05-1DDE419BD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D755D-6D86-4118-A309-9822E96D0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C4F31-C324-460B-8792-A42821AD7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4D17D-2DB1-44D6-85EA-1C49DB90C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24A90-7CF6-446B-8184-B1CCAD8E3A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Line 6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7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9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0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1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2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feld 1"/>
          <p:cNvSpPr/>
          <p:nvPr/>
        </p:nvSpPr>
        <p:spPr>
          <a:xfrm>
            <a:off x="503280" y="368280"/>
            <a:ext cx="75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used in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ica.Mechanics.MultiBody.Examples.Loops.PlanarLoops_analy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Otter, Martin</cp:lastModifiedBy>
  <dcterms:modified xsi:type="dcterms:W3CDTF">2012-10-06T04:39:44Z</dcterms:modified>
  <cp:revision>2</cp:revision>
  <dc:subject/>
  <dc:title>Folie 1</dc:title>
</cp:coreProperties>
</file>